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831B3-A157-4378-9397-CF8B3BD63A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DA2D0-5E7A-48A6-8D83-5C4A16EF7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0FFE6-FEA2-4870-BED4-AC091AB3F2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B6899-CF2C-42D8-8B76-7A752BF86B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3E993-AD54-49E4-B10B-CBA07FA4E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EB61B-0D90-427A-A51A-367496228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3EB88-860E-4D1E-A9B5-0BA6AC85B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10893-0398-4909-89E6-1C0337330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72E33-3BAB-421F-B303-47742E0BC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F41A4-5144-4F8C-B8E7-463A5396A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DFAD1-B565-4603-87B8-DEC248DDE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2CD23-5810-410D-9D29-FD5CA9D09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65020-3995-4787-93ED-15DDA9A797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4920" y="759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cc00"/>
                </a:solidFill>
                <a:latin typeface="Arial"/>
              </a:rPr>
              <a:t>Me llamo ________ </a:t>
            </a:r>
            <a:r>
              <a:rPr b="0" lang="en-US" sz="3600" spc="-1" strike="noStrike">
                <a:solidFill>
                  <a:srgbClr val="99cc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99cc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99cc00"/>
                </a:solidFill>
                <a:latin typeface="Arial"/>
              </a:rPr>
              <a:t>    Clase 7 IM</a:t>
            </a:r>
            <a:br>
              <a:rPr sz="3600"/>
            </a:br>
            <a:r>
              <a:rPr b="0" lang="en-US" sz="3600" spc="-1" strike="noStrike">
                <a:solidFill>
                  <a:srgbClr val="99cc00"/>
                </a:solidFill>
                <a:latin typeface="Arial"/>
              </a:rPr>
              <a:t>La fecha es el 23 de noviembre del 201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52280" y="1371600"/>
            <a:ext cx="8839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0000"/>
                </a:solidFill>
                <a:latin typeface="Arial"/>
              </a:rPr>
              <a:t>Propósito # 23: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¿Como practicamos la comprensión de lectur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0000"/>
                </a:solidFill>
                <a:latin typeface="Arial"/>
              </a:rPr>
              <a:t>Actividad Inici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ompleta </a:t>
            </a:r>
            <a:r>
              <a:rPr b="0" lang="es-ES_tradnl" sz="3200" spc="-1" strike="noStrike" u="sng">
                <a:solidFill>
                  <a:srgbClr val="000000"/>
                </a:solidFill>
                <a:uFillTx/>
                <a:latin typeface="Arial"/>
              </a:rPr>
              <a:t>Ejercicio 8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p. 96 1-16 </a:t>
            </a:r>
            <a:r>
              <a:rPr b="0" i="1" lang="es-ES_tradnl" sz="3200" spc="-1" strike="noStrike">
                <a:solidFill>
                  <a:srgbClr val="000000"/>
                </a:solidFill>
                <a:latin typeface="Times New Roman"/>
              </a:rPr>
              <a:t>(answers onl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Ejercici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Leer </a:t>
            </a:r>
            <a:r>
              <a:rPr b="0" lang="es-ES_tradnl" sz="3200" spc="-1" strike="noStrike" u="sng">
                <a:solidFill>
                  <a:srgbClr val="000000"/>
                </a:solidFill>
                <a:uFillTx/>
                <a:latin typeface="Arial"/>
              </a:rPr>
              <a:t>Conversación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p. 9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opia y completa </a:t>
            </a:r>
            <a:r>
              <a:rPr b="0" lang="es-ES_tradnl" sz="3200" spc="-1" strike="noStrike" u="sng">
                <a:solidFill>
                  <a:srgbClr val="000000"/>
                </a:solidFill>
                <a:uFillTx/>
                <a:latin typeface="Arial"/>
              </a:rPr>
              <a:t>¿Comprendes?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p.98 (1-1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WORKBOOK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ompleta p.44-4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28195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Tarea # 2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3T02:56:14Z</dcterms:created>
  <dc:creator>Helen Zumaeta</dc:creator>
  <dc:description/>
  <dc:language>en-US</dc:language>
  <cp:lastModifiedBy>Helen Zumaeta</cp:lastModifiedBy>
  <dcterms:modified xsi:type="dcterms:W3CDTF">2011-11-23T02:56:55Z</dcterms:modified>
  <cp:revision>2</cp:revision>
  <dc:subject/>
  <dc:title>Me llamo ________       Clase 7 IM La fecha es el 23 de noviembre del 2011</dc:title>
</cp:coreProperties>
</file>